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81D-1F76-4514-8902-A4AEE879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6AB-0219-4FFD-AB23-7BD8E68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E88-6B9F-4708-BCF8-20551FA4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D50-BD0A-47C6-ADC8-0397A7BE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9D9-0804-4318-A576-48DAA44E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D13-B784-418A-B144-18C0120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3E5-2EF9-440B-878D-9AF9C69B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247-C3DE-4EC3-8F12-D7DBF416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115-4470-4472-86C6-B9AEE4D9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A19-B724-471F-AE9D-42E5156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724-3701-4C0F-A145-FF4FC39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C31-BC04-4FAC-AA28-ADF4FA6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7F4C-8FF9-472C-88FC-348A6F76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6642" descr=""/>
          <p:cNvPicPr/>
          <p:nvPr/>
        </p:nvPicPr>
        <p:blipFill>
          <a:blip r:embed="rId1"/>
          <a:stretch/>
        </p:blipFill>
        <p:spPr>
          <a:xfrm>
            <a:off x="88920" y="0"/>
            <a:ext cx="6159600" cy="7467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934320" y="1066680"/>
            <a:ext cx="1600200" cy="618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شِّراع وأنت ال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رحل بي حيثما تشا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8759276TYylZkDPE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Simplified Arabic"/>
              </a:rPr>
              <a:t>إني اليراع وأنت الفكر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هيا اكتب بي كيفما تشاء</a:t>
            </a:r>
            <a:r>
              <a:rPr b="0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8759592UQcUqtBtCr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1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60948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غيثار وأنت اللح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عزف بي قدر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1:04:53Z</dcterms:created>
  <dc:creator>USER</dc:creator>
  <dc:description/>
  <dc:language>en-US</dc:language>
  <cp:lastModifiedBy>USER</cp:lastModifiedBy>
  <dcterms:modified xsi:type="dcterms:W3CDTF">2003-02-21T03:21:33Z</dcterms:modified>
  <cp:revision>4</cp:revision>
  <dc:subject/>
  <dc:title>PowerPoint Presentation</dc:title>
</cp:coreProperties>
</file>